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F88-439D-4312-BB2F-24293165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7B9-9297-40A4-BD13-C442E3BD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134-B0B7-4E0B-9988-53BCD904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62F-B2F5-484B-BE66-00F1D80E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450-95C4-457D-9D06-B7FE797F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195D-A1B2-4A2C-BF2C-197A6DFB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ECD-C099-445D-B040-9854BF3F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8BD-8596-4B8A-BBEF-AF66AF85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1B3-A5B6-4070-ADC3-01E68FD3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222-6001-4172-8CD9-18D8FB3F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6E4-3F1B-4BF9-B8FE-4DC5FF4B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D94-1D21-4E4D-915A-8E953813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112C-9022-438A-AEB7-03E838B48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 au millieu, bien en vue, sur un sapin de Noël géant, ils suspendent des boules de neige, et une étoile, évidem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43434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enfants jouent au ballon chasseur et aussi à la &lt;&lt;tag&gt;&gt; glacée. Ils forment de hautes pyramides qui finissent par s’écroul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-3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 une grande table, les mamans posent des gâteries: crème glacée, cornets de neige et autres félices assor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 maintenant, place à la danse! Au rythme endiablé du violon, les bonshommes de neige se mettent en rang et glissent deux par deux sous le p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4770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lqu’un fait: &lt;&lt;Chut! Ce sont bien des grelots que j’traîneau du père Noël desc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père Noël ouvre son sac avec de joyeux ho! ho! ho! Il donne des cadeaux de neige et boit du chocolat cha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4495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la tournée n’est pas finie et les rennes s’impatientent. Au coup de sifflet du père Noël, l’attelage s’élance, telle une étoile fil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veille de Noël, j’ai fait un bonhomme de neige vraiment gros et tout souriant. Je l’ai habillé de rouge et de vert, et j’ai décoré de houx son chapeau élég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de gaieté! Que de plaisir! Mais la fête n’est pas encore terminée. Se tenant tous par ;a main, les bonhommes se mettent à osci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 son des clochettes et du violon, ils entonnent de jolis chants qui parlent d’étoiles, de neige et de la naissance d’un enf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enfants tombent de sommeil. Les adultes bâillent à qui mieux mieux. Alors, aux petites heures du matin, les bonhommes de neige rentrent chez eu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cun d’eux a repris sa place quand se lève le jour de Noël, mais ces bonshommes tout en neige royonnent d’une joie sans parei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ur beau soourire s’agrandit et leurs yeux se mettent à briller, chaque fois qu’ils repensent au Noël merveilleux qu’ils ont pass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sembait attendre quelque chose. Dans son regard, il y avait comme une étincelle. Je me suis alors demandé si les bonshommes de neige fêtaient Noë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41144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crois que, pendant que je dors en rêvant de cadeaux et de douceurs sucrées, les bonshommes de neige, à la hâte, quittent le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t excit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s glissent le long des rues enneigées, ornées de guirlandes scintillantes, pendant que la ville sommeille sous une couche de neige brillan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s passent devant les magasins aux vitrines illuminées, et s’arrêtent de temps à autre pour contempler les cadeaux expos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ant de partout, les bonshomme de neige se rassemblent.  Ils vont passer le réveillon de Noël au centre-ville, tous ensem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s se saluent de la main et se lancent d’heureux bonsoirs. Les amis et la parenté sont si contents de se voi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r bien décorer la place, des bonshommes de neige enjoués accrochent partout des guirlandes et des glaçons argent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01:45Z</dcterms:created>
  <dc:creator>CVJH-LAB</dc:creator>
  <dc:description/>
  <dc:language>en-US</dc:language>
  <cp:lastModifiedBy>nield411</cp:lastModifiedBy>
  <dcterms:modified xsi:type="dcterms:W3CDTF">2008-02-26T04:21:49Z</dcterms:modified>
  <cp:revision>11</cp:revision>
  <dc:subject/>
  <dc:title>Slide 1</dc:title>
</cp:coreProperties>
</file>